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9.wmf" ContentType="image/x-wmf"/>
  <Override PartName="/ppt/media/image1.jpeg" ContentType="image/jpe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A6DA-CAA6-4427-A157-F0270CE3723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B3C2-BC7E-4589-84A2-F895FE604E7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7F82-CA0B-464D-8D58-592DFAC6BEE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E8B9-C540-4E2C-92B1-5463821F990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1FB6-F278-4F1B-8DDA-93BA0691687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4B2A-D8BD-490B-9BE3-F578A0F348E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159-B827-4CF4-A5A5-3B3F8D97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E633-B59A-498A-8A4C-44CEB78C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4CE-A34F-4939-8478-CDDD77EC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FB18-BFF4-4F96-834F-2EED5689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461D-14BC-4AF7-BD26-F660A072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9072-A682-4C38-8F1F-A01497A2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E57E-CE80-414C-BD61-C8659E87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4858-84B5-499B-8151-6DDCCC3C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F144-4A54-4DF2-90C3-65986058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956A-AE76-4D08-919C-5ED39557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6F1A-B99C-4956-8FBA-604A3E76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1C3-CDD9-41F9-BF0A-C38CC311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5EF9-5FC5-4CD3-ADAF-4240C6D6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D13D-4B1B-407A-9584-708E2A22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047D-2CC0-4FD2-8E21-AD2796E7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C55F-D67F-41E1-9B22-BE4595A2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CF39-8542-4E2D-A452-B9EBCC7C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50B2A-2FDA-426A-9732-5C326660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F9E4A-E5CA-43F2-8079-EC58DA10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5112-C94A-4E9C-AE3D-FC9636E5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6E33B-598D-43EB-B148-7AEF643F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E1478-26D0-4FF4-AF0E-4645AAD8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C335-4B53-4653-885D-49EE05AD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4E39-8B43-46F7-9C48-D3E81E11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5E23F-AB35-4167-9B66-699398CF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348D2-A033-474C-BF34-F6AE56D2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4F98A-AA20-4DB5-A7BB-E6676306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4D55A-17BE-499E-8D43-34ED739D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DE924-C5FC-4A77-829C-C59110C4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2216B-17FC-4B56-9CD5-2FB14D9A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CDE57-2052-403A-8C03-CE7BFD35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DBAD0-7BE7-4ADC-BCEC-F94D8274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7982D-D582-49FD-A662-B3F5F182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EA0-FB94-4DEE-8516-27A503FE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5BE82-CCFB-428D-83E1-F7E8D2AC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D063F-72FE-49C4-A216-4A64C3AD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69EA5-0894-4916-9EC2-C65FD75C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9AB27-9AAA-44EE-A935-24A3CB2F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9AC9E-2EB5-423C-AB82-A43DC5BE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895F8-2699-4291-8203-2D9CE6A0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CCA7D-AA0E-42DF-9E13-5ADD0939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E54BD-3A65-440B-906D-814CF927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BBA7F-095A-4628-9608-359E0E80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42E-51AB-4C1B-8578-AA87BC60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6D0-3A1E-48D2-9FDA-39EC4EA1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369-06F4-4729-9079-374C663F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54C-69D2-4B8F-BCE7-E328562D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9F4-AC31-42BB-AE66-42A6AD86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5158-210D-4A04-AB3E-7C3E0FA2C1C8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CD35-353E-4EB7-B562-FB43C1C174D0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1371-6A1B-42D1-9363-FA7E5DB42785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DA31-D55F-4E5A-930B-4CB7E0F8AEDD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0B5B-411B-4310-AEB3-43C70B227A57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30B4-4861-4F5C-BBD7-349AB621A5C4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82E0-94B2-455C-B7BF-DC9F0139F24F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5AC2-B2ED-46E0-A30F-C7D2A3F94DC1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Extras Q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168840" indent="-168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1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 cars are travelling on intersecting roads.  The first car is travelling northeast at 35 km/h.  The second car begins 7 km north of the first, and it is travelling east at 25 km/h.  Assuming that these cars will continue at this rate, will they collide?  Assign vector equations to each line and assume that the first car begins at the origi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8840" indent="-168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ar 1 start (0.0)    Car 2 start (0,7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ath of car 1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Path of Car 2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ollide if we can make s=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6" name="Object 31"/>
          <p:cNvGraphicFramePr/>
          <p:nvPr/>
        </p:nvGraphicFramePr>
        <p:xfrm>
          <a:off x="2556000" y="2276640"/>
          <a:ext cx="2232000" cy="101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276640"/>
                    <a:ext cx="223200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32"/>
          <p:cNvGraphicFramePr/>
          <p:nvPr/>
        </p:nvGraphicFramePr>
        <p:xfrm>
          <a:off x="2700360" y="3716280"/>
          <a:ext cx="266364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716280"/>
                    <a:ext cx="26636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olving for x and y the two equations will b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1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olving giv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ince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e cars do NOT collid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2" name="Object 2"/>
          <p:cNvGraphicFramePr/>
          <p:nvPr/>
        </p:nvGraphicFramePr>
        <p:xfrm>
          <a:off x="1069920" y="2060640"/>
          <a:ext cx="1892520" cy="101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2060640"/>
                    <a:ext cx="189252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3"/>
          <p:cNvGraphicFramePr/>
          <p:nvPr/>
        </p:nvGraphicFramePr>
        <p:xfrm>
          <a:off x="1116000" y="3429000"/>
          <a:ext cx="163188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3429000"/>
                    <a:ext cx="163188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4"/>
          <p:cNvGraphicFramePr/>
          <p:nvPr/>
        </p:nvGraphicFramePr>
        <p:xfrm>
          <a:off x="2484360" y="4292640"/>
          <a:ext cx="311148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4292640"/>
                    <a:ext cx="31114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5"/>
          <p:cNvGraphicFramePr/>
          <p:nvPr/>
        </p:nvGraphicFramePr>
        <p:xfrm>
          <a:off x="1258920" y="5516640"/>
          <a:ext cx="86508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5516640"/>
                    <a:ext cx="865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Extras Q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77120" indent="-17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e the line ,                         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be th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 ,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d the intersection of these two lines, and then find the area of the triangle whose vertices are the intersection point,  s =0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1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  t=3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2" name="Object 2"/>
          <p:cNvGraphicFramePr/>
          <p:nvPr/>
        </p:nvGraphicFramePr>
        <p:xfrm>
          <a:off x="3492360" y="1989000"/>
          <a:ext cx="209412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989000"/>
                    <a:ext cx="20941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3"/>
          <p:cNvGraphicFramePr/>
          <p:nvPr/>
        </p:nvGraphicFramePr>
        <p:xfrm>
          <a:off x="1476360" y="2565360"/>
          <a:ext cx="273528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2565360"/>
                    <a:ext cx="2735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Extras Q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48428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First find the point of intersection which you should find is P(-1,6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other points of the triangle (when s=0 and t=3) are Q(2,9) and R(0,8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area of the triangle will be 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8" name="Object 4"/>
          <p:cNvGraphicFramePr/>
          <p:nvPr/>
        </p:nvGraphicFramePr>
        <p:xfrm>
          <a:off x="3132000" y="4508640"/>
          <a:ext cx="1584360" cy="17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4508640"/>
                    <a:ext cx="1584360" cy="17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7:07:38Z</dcterms:created>
  <dc:creator>sandy</dc:creator>
  <dc:description/>
  <dc:language>en-US</dc:language>
  <cp:lastModifiedBy>sandy</cp:lastModifiedBy>
  <dcterms:modified xsi:type="dcterms:W3CDTF">2010-12-30T17:34:26Z</dcterms:modified>
  <cp:revision>327</cp:revision>
  <dc:subject/>
  <dc:title>2.2 Derivatives of Polynomial Functions</dc:title>
</cp:coreProperties>
</file>